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SER.WAV" ContentType="audio/x-wav"/>
  <Override PartName="/ppt/media/DRIVEBY.WAV" ContentType="audio/x-wav"/>
  <Override PartName="/ppt/media/CHIMES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F69-B5DD-4B90-A232-A705569B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A2D-8870-4FC5-AA3D-9431CFE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DBB-C263-4E94-8F12-3C981813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AA5-7E8C-4B21-8440-44234414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68B3-900A-4299-9698-7CA3A220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4ECB-39ED-44EF-9282-E61435F7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3FC9-C277-4D03-B459-A52BC68A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73F-4D67-4C31-9A64-142802EE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2F41-97BA-4C9D-8E33-EC152B68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95DC-021B-4CCC-9D2B-BEEA7DF9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83B8-0CAB-46FF-B6CC-C1B2F0FB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52B-DE90-4105-A86E-67DB8F84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56A2-2256-464C-BCD8-425BA04B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C3B2-2270-45A9-9434-59BF0D9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387E-2BBF-4EB3-9F87-B07D4EE6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DBD4-1590-42FF-B1B1-D6379AC1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79C1-F317-4CA0-83D9-B9B61AD0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D3C-8E85-4545-8C1E-92B5749A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EA1-21DE-44A7-A719-FC698081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7BA-A59E-4147-BC79-26A2660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0A0-8F06-4D9F-B246-AA2FE1F9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420-1611-4AA6-A672-CBFC515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509-BDA2-4430-A5BE-7FFA5A7E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986-E938-45C9-8B18-3BFA0D1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c3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c3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F681-3F33-44EB-9590-7BD54069F79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c3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c3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016A-A247-41AD-8549-7AB32DF29C2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8672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10000"/>
                </a:solidFill>
                <a:latin typeface="Arial"/>
              </a:rPr>
              <a:t>RIGHT TRIANGLE TRIGONOMETRY</a:t>
            </a:r>
            <a:endParaRPr b="1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ga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nd the length of the side marked with the variable v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456840" y="3048120"/>
            <a:ext cx="4038480" cy="175248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4640" y="312408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5º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7040" y="38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0240" y="594360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38 m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71600"/>
            <a:ext cx="1752480" cy="1219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your 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3367080"/>
            <a:ext cx="2590920" cy="3416040"/>
            <a:chOff x="838080" y="3367080"/>
            <a:chExt cx="2590920" cy="3416040"/>
          </a:xfrm>
        </p:grpSpPr>
        <p:sp>
          <p:nvSpPr>
            <p:cNvPr id="199" name=""/>
            <p:cNvSpPr/>
            <p:nvPr/>
          </p:nvSpPr>
          <p:spPr>
            <a:xfrm>
              <a:off x="838080" y="33670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hyp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680" y="626256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opp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4357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adj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514600" y="2286000"/>
            <a:ext cx="1219320" cy="1905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quire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n  this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91120" y="1828800"/>
                <a:ext cx="20113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067280" y="2971800"/>
                <a:ext cx="20127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700440" y="4119480"/>
                <a:ext cx="24811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13400" y="4724280"/>
                <a:ext cx="22111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°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086600" y="1981080"/>
            <a:ext cx="205740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3048120"/>
            <a:ext cx="18288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396252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both sides by the denominator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6095880"/>
            <a:ext cx="220968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your calculator to evaluate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4952880"/>
            <a:ext cx="1981080" cy="68580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oth sides by sin 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705200" y="6062760"/>
                <a:ext cx="2165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 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286000" y="5791320"/>
            <a:ext cx="15228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42840" y="4114800"/>
            <a:ext cx="152280" cy="3049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e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99"/>
                </a:solidFill>
                <a:latin typeface="Arial Narrow"/>
              </a:rPr>
              <a:t>Exercises</a:t>
            </a:r>
            <a:endParaRPr b="1" lang="en-US" sz="4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198108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Do questions 3 and 4 on your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nding an ang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286000"/>
            <a:ext cx="2438280" cy="358128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5120" y="535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2880" y="358128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imes New Roman"/>
              </a:rPr>
              <a:t>56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94000" y="579132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imes New Roman"/>
              </a:rPr>
              <a:t>40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295280"/>
            <a:ext cx="1752840" cy="838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6920" y="31226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9720" y="61866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2666880"/>
            <a:ext cx="1523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1143000"/>
            <a:ext cx="2362320" cy="762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g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962520" y="1066680"/>
                <a:ext cx="21333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781680" y="2514600"/>
            <a:ext cx="2362320" cy="762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in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05280" y="227160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381560" y="3429000"/>
                <a:ext cx="2057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3733920" y="4419720"/>
            <a:ext cx="4800600" cy="1631160"/>
            <a:chOff x="3733920" y="4419720"/>
            <a:chExt cx="4800600" cy="1631160"/>
          </a:xfrm>
        </p:grpSpPr>
        <p:sp>
          <p:nvSpPr>
            <p:cNvPr id="232" name=""/>
            <p:cNvSpPr/>
            <p:nvPr/>
          </p:nvSpPr>
          <p:spPr>
            <a:xfrm>
              <a:off x="3733920" y="4419720"/>
              <a:ext cx="4800600" cy="163116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ing the 2nd function (or inverse) button on your calculat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4952880" y="5181480"/>
                  <a:ext cx="235440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÷</m:t>
                      </m:r>
                      <m:r>
                        <m:rPr>
                          <m:lit/>
                          <m:nor/>
                        </m:rPr>
                        <m:t xml:space="preserve">56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"/>
          <p:cNvSpPr/>
          <p:nvPr/>
        </p:nvSpPr>
        <p:spPr>
          <a:xfrm>
            <a:off x="685800" y="5715000"/>
            <a:ext cx="15228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nother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2438280" cy="358128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724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31760" y="370044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imes New Roman"/>
              </a:rPr>
              <a:t>8.7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93640" y="579132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imes New Roman"/>
              </a:rPr>
              <a:t>2.6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295280"/>
            <a:ext cx="1752840" cy="838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6920" y="32907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32440" y="6110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2666880"/>
            <a:ext cx="1523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1143000"/>
            <a:ext cx="2362320" cy="762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g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657600" y="1066680"/>
                <a:ext cx="21337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781680" y="2286000"/>
            <a:ext cx="2362320" cy="762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in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664080" y="2195640"/>
                <a:ext cx="20509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076640" y="3365640"/>
                <a:ext cx="20192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429000" y="4191120"/>
            <a:ext cx="4724280" cy="1631160"/>
            <a:chOff x="3429000" y="4191120"/>
            <a:chExt cx="4724280" cy="1631160"/>
          </a:xfrm>
        </p:grpSpPr>
        <p:sp>
          <p:nvSpPr>
            <p:cNvPr id="250" name=""/>
            <p:cNvSpPr/>
            <p:nvPr/>
          </p:nvSpPr>
          <p:spPr>
            <a:xfrm>
              <a:off x="3429000" y="4191120"/>
              <a:ext cx="4724280" cy="163116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ing the 2nd function (or inverse) button on your calculat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419720" y="4952880"/>
                  <a:ext cx="263844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÷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2" name=""/>
          <p:cNvSpPr/>
          <p:nvPr/>
        </p:nvSpPr>
        <p:spPr>
          <a:xfrm>
            <a:off x="685800" y="5715000"/>
            <a:ext cx="15228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f1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99"/>
                </a:solidFill>
                <a:latin typeface="Arial Narrow"/>
              </a:rPr>
              <a:t>Exercises</a:t>
            </a:r>
            <a:endParaRPr b="1" lang="en-US" sz="4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205740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Complete the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10200" y="836640"/>
            <a:ext cx="648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10000"/>
                </a:solidFill>
                <a:latin typeface="Arial"/>
              </a:rPr>
              <a:t>We wish to thank our supporters:</a:t>
            </a:r>
            <a:endParaRPr b="0" lang="en-US" sz="3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Right Triangles and Trigonometry</a:t>
            </a:r>
            <a:endParaRPr b="1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743200"/>
            <a:ext cx="4114800" cy="251460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18800">
            <a:off x="4952160" y="362556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ypotenus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105520"/>
            <a:ext cx="15228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orrectly identifying the sid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5640" y="12189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y the hypotenus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495680"/>
            <a:ext cx="4419720" cy="167652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7680" y="47386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91840" y="575460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5º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79440" y="501804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64440" y="61610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1752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te the specified angl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860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y the side opposite this angle and label it 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31240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bel the third side as adjacent using adj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601992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Agai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5640" y="12189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y the hypotenus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495680"/>
            <a:ext cx="4419720" cy="167652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7680" y="47386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840" y="464652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8º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8600" y="609588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54400" y="51055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1752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te the specified angl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2860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y the side opposite this angle and label it 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bel the third side as adjacent using adj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601992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Learn the trig ratios for right triangle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657600" y="2133720"/>
                <a:ext cx="2381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81280" y="3505320"/>
                <a:ext cx="24386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581280" y="4876920"/>
                <a:ext cx="25146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90720"/>
            <a:ext cx="5943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nd the length of the side marked with the variable 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304560" y="3047760"/>
            <a:ext cx="4038480" cy="175284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6560" y="548640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5º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680" y="36385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40 c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09840" y="58752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523880"/>
            <a:ext cx="1752480" cy="1219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your 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0800" y="32367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3933720"/>
            <a:ext cx="78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pp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9720" y="61992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590920"/>
            <a:ext cx="190512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require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n  this ca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3657600"/>
            <a:ext cx="228600" cy="380880"/>
          </a:xfrm>
          <a:prstGeom prst="line">
            <a:avLst/>
          </a:prstGeom>
          <a:ln w="442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00600" y="1905120"/>
                <a:ext cx="19810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76760" y="3054240"/>
                <a:ext cx="2076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25960" y="4308480"/>
                <a:ext cx="2644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57800" y="5105520"/>
                <a:ext cx="2514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 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7086600" y="2057400"/>
            <a:ext cx="20574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3200400"/>
            <a:ext cx="18288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4267080"/>
            <a:ext cx="220968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both sides by the denominator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5638680"/>
            <a:ext cx="220968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your calculator to evaluate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579132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y this 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743200" y="106632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nd the length of the side marked with the variable 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304560" y="3428640"/>
            <a:ext cx="4038480" cy="175284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6560" y="586584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7º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680" y="39751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8 c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4095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523880"/>
            <a:ext cx="1752480" cy="1219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your 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84520" y="3605040"/>
            <a:ext cx="2635920" cy="3142800"/>
            <a:chOff x="884520" y="3605040"/>
            <a:chExt cx="2635920" cy="3142800"/>
          </a:xfrm>
        </p:grpSpPr>
        <p:sp>
          <p:nvSpPr>
            <p:cNvPr id="152" name=""/>
            <p:cNvSpPr/>
            <p:nvPr/>
          </p:nvSpPr>
          <p:spPr>
            <a:xfrm>
              <a:off x="884520" y="360504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hyp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5360" y="365616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opp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1640" y="628812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Arial"/>
                </a:rPr>
                <a:t>adj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666880" y="5867280"/>
            <a:ext cx="1752840" cy="838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Not require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in  this cas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133720"/>
                <a:ext cx="20113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676760" y="3200400"/>
                <a:ext cx="1982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24160" y="4386240"/>
                <a:ext cx="2448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295960" y="5183280"/>
                <a:ext cx="2346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 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7086600" y="2286000"/>
            <a:ext cx="20574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429000"/>
            <a:ext cx="18288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441972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both sides by the denominator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71500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your calculator to evaluate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09680" y="6553080"/>
            <a:ext cx="609840" cy="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617220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4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99"/>
                </a:solidFill>
                <a:latin typeface="Arial Narrow"/>
              </a:rPr>
              <a:t>Exercises</a:t>
            </a:r>
            <a:endParaRPr b="1" lang="en-US" sz="4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98108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Do questions 1 and 2 on your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nother typ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3200" y="1219320"/>
            <a:ext cx="5943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nd the length of the side marked with the variable 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-304560" y="3200040"/>
            <a:ext cx="4038480" cy="175284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4800" y="316224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2º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1680" y="4052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8840" y="60199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2 c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523880"/>
            <a:ext cx="1752480" cy="1219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your 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40560" y="6318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9040" y="44956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895480"/>
            <a:ext cx="1752480" cy="99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Not require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in  this cas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267080" y="2133720"/>
                <a:ext cx="20415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43240" y="3200400"/>
                <a:ext cx="20131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20960" y="4308480"/>
                <a:ext cx="2481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691160" y="4863960"/>
                <a:ext cx="2244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°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7086600" y="2286000"/>
            <a:ext cx="20574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3429000"/>
            <a:ext cx="18288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434340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both sides by the denominator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624852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your calculator to evaluat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848040"/>
            <a:ext cx="76320" cy="30492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5257800"/>
            <a:ext cx="1981080" cy="68580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oth sides by tan 3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00600" y="6095880"/>
                <a:ext cx="2133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 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38280" y="594360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6800" y="40528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0:45:24Z</dcterms:created>
  <dc:creator>Academicai PowerPoint</dc:creator>
  <dc:description/>
  <dc:language>en-US</dc:language>
  <cp:lastModifiedBy>David Parnis</cp:lastModifiedBy>
  <cp:lastPrinted>2002-09-23T10:51:25Z</cp:lastPrinted>
  <dcterms:modified xsi:type="dcterms:W3CDTF">2004-11-08T05:19:45Z</dcterms:modified>
  <cp:revision>55</cp:revision>
  <dc:subject>Mathematics</dc:subject>
  <dc:title>Right Triangle Trigonometry</dc:title>
</cp:coreProperties>
</file>